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D78-4EFD-45F9-9F37-14A1C420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652-A5C4-48EE-8D00-B4208DC8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4BA-5019-4F37-852E-FE83C7CA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701-7426-4B66-A907-F7C0F6EB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A57-0FA5-4A65-9730-8B0FC64C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3C6-9779-4747-BA3D-13E26A08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296-5F6D-44E8-88D3-8C62B13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95F-DD76-411F-83C1-B50A59FC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477-E09D-4B04-8AF0-6331948A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6AA-372D-4789-9FBA-F14AC7C2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F6E-B1AC-4B45-84C6-9DF6D942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606-0166-4641-810E-987ED49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05FD-15DE-4D0E-AA40-376FD4717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strait similar to an isthmus?  Type the answer at the bottom where it says “Click to add not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77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TextBox 10"/>
          <p:cNvSpPr/>
          <p:nvPr/>
        </p:nvSpPr>
        <p:spPr>
          <a:xfrm>
            <a:off x="3581280" y="3429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poweruser</cp:lastModifiedBy>
  <dcterms:modified xsi:type="dcterms:W3CDTF">2011-09-22T21:20:01Z</dcterms:modified>
  <cp:revision>27</cp:revision>
  <dc:subject/>
  <dc:title>PowerPoint Presentation</dc:title>
</cp:coreProperties>
</file>